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754C-298D-452F-9913-B59B66C60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6AC3-F3F1-48F3-8BEC-4CD8965D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D468-C14F-46DA-9BD4-89FF27F98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CD49-1D93-4A29-BE4B-36915AEAF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8C72-5EDA-48DE-8CD0-65D73F0E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AB64-8CD0-4DB0-9D4E-C561232C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FC40-3067-45B4-A9EE-B072975A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8645-E76F-4A1C-8423-28220B51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39EB-AA83-490A-B639-60A04B06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39F6-3282-4C99-9796-32062B17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0943-3867-45F9-BD88-B22FA4AC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D689-27F9-47F0-9F36-566BFEEE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44A9-D2E4-4818-80BC-2DA91376C3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900000" y="836640"/>
            <a:ext cx="7775640" cy="27367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Роль планирова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 самообразова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оциального педаго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Скругленный прямоугольник 4">
            <a:hlinkClick r:id="rId2"/>
          </p:cNvPr>
          <p:cNvSpPr/>
          <p:nvPr/>
        </p:nvSpPr>
        <p:spPr>
          <a:xfrm>
            <a:off x="3132000" y="5877000"/>
            <a:ext cx="30243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т. Павлов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2018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4712040" y="4320000"/>
            <a:ext cx="419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дготовила социальный педаг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БОУ СОШ № 10 ст.Павлов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еменько С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иды деятельности, составляющие процесс самообразования социального педаг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изучение нормативно-правовых а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систематический просмотр определенных телепередач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 чтение конкретных педагогических периодических издани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 чтение методической и педагогической литератур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 посещение семинаров, конференций, занятий коллег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 дискуссии, совещания, обмен опытом с коллега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 систематическое прохождение курсов повышения квалификац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 проведение открытых занятий для анализа со стороны коллег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 посещение выставок и экскурс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 общение с коллега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 ведение здорового образа жизни, занятие спортом, физическими упражне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5f9e7e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ндивидуальный план само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770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оциальный педагог определяет для себя тему самообразовательной деятельности, затем ставит цель и задачи самообразования, и в письменном виде составляет индивидуальный план – что и в какие сроки необходимо освоить, выполнить, сдел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аписать индивидуальные планы самообразования можно разными вариан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4" descr="MCj03013080000[1]"/>
          <p:cNvPicPr/>
          <p:nvPr/>
        </p:nvPicPr>
        <p:blipFill>
          <a:blip r:embed="rId1"/>
          <a:stretch/>
        </p:blipFill>
        <p:spPr>
          <a:xfrm>
            <a:off x="7524720" y="4869000"/>
            <a:ext cx="1284480" cy="1584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азработка индивидуального плана само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амоанализ деятельности, из которой вытекает проблема, стоящая перед социальным педагогом; либо желание изучить новые направления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дбор и обоснование индивидуальной темы самообразования, её связь с целями и задачами социальной педагогики, планируемые результ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едполагаемый период работы над те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сновные вопросы, намечаемые для из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Литература по 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Чей опыт предполагается изуч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7.Творческое сотрудничество по теме само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8. Практические выходы, в т.ч. доклады, мастер клас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9. Изучение передового опы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0. Когда и где выступал с обобщением собственного опы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1. Выводы по окончании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a9e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пределение «самообразов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Уровни самообразователь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Цель само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ехнология само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ндивидуальный план само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арианты написания индивидуального пл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bfb"/>
            </a:gs>
            <a:gs pos="50000">
              <a:srgbClr val="bbe0e3"/>
            </a:gs>
            <a:gs pos="100000">
              <a:srgbClr val="f6fb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33"/>
                </a:solidFill>
                <a:latin typeface="Arial"/>
              </a:rPr>
              <a:t>Самообраз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пособ повышения педагогического мастерства, многокомпонентная личностно, профессионально и общественно значимая самостоятельная познавательная деятельность социального педагога, включающая в себя общеобразовательное, психолого-педагогическое и методическое само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оцесс сознательной самостоятельной познаватель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тимул как для повышения профессионального мастерства, так и для развития 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Не должно сводится к бумаготворчеству, оформлению красочных стендов и пап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eeea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Уровни самообразовательной деятель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Адаптивный - характерен для начинающего социального педагога. Его  целью является адаптация к профе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облемно-поисковый -качественно новый этап самообразо-вательной деятельности. На этом этапе могут быть найдены эффективные приемы работы, оригинальные метод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Инновационный - предполагает высокую степень развития соответствующих умений. На этом этапе социальный педагог создает социально-значимый продукт деятельности, обладающий практической новизной. Фактор полной свободы выбора, полной самостоятельности накладывает на самообразование своеобразный отпечаток. Этот выбор не каждому дается, он требует не только постановки цели, но и труда, настойчивости в ее реал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Цель самообразования  социального педаг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10108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Расширение общепедагогических и психологичес-ких знаний с целью совершенствования приёмов и методов работы и воспит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Углубление знаний нормативно-правовых актов, а также педагогического мастерства по разным методик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Овладение достижениями социально-педагогичес-кой науки, передовой педагогической практ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Повышение общекультурного уровня  социального педаг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иёмы само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самообязательство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(добровольное задание самому себе осознанных целей и задач самосовершенствования, решение сформировать у себя те или иные качеств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самоотчет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(ретроспективный взгляд на пройденный за определенное время путь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самоконтроль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(систематическая фиксация своего состояния и поведения с целью предотвращения нежелательных последствий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осмысление собственной деятельности и поведения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(выявление причин успехов и неудач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риступая к работе по самообразованию, социальный педагог должен иметь данные анализа своей работы за определенный период, объективную их оценку и рекомендации коллег по улучшению свое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ункции  социального педагога для перспективного планирования само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бразовательно-воспитательная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, т.е. обеспечение целенаправленного педагогического влияния на поведение и деятельность детей и взрослых; содействие всех социальных институтов, учреждений физической культуры и спорта, средства массовой информ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Диагностическая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, т.е. постановка “социального диагноза”, для чего проводится изучение личностных особенностей и социально-бытовых условий жизни детей, семьи, социального окружения; выявление позитивных и негативных влияний и различного рода пробл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рганизаторская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, т.е. организация общественно-ценной деятельности детей и взрослых, педагогов и волонтеров в решении задач социально-педагогической помощи, поддержки воспитания и развития реализации планов и програм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рогностическая и экспертная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, т.е. участие в программировании, прогнозировании, проектировании процесса социального развития конкретного микросоциума, в деятельности различных институтов по социальной работе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рганизационно-коммуникативная,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т.е. включение добровольных помощников, населения микрорайона в социально-педагогическую работу. Организация совместного труда и отдыха, налаживание взаимодействия между различными институтами в их работе с детьми, с семьями. 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хранно-защитная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, т.е. использование имеющегося арсенала правовых норм для защиты прав и интересов личности. Содействие применению мер государственного принуждения и реализации юридической ответственности в отношении лиц, допускающих прямые или косвенные противоправные воздействия на подопечных социального педагог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осредническая,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т.е. осуществление связи в интересах ребенка между семьей, образовательным учреждением и ближайшим окружением ребен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оли социального педаг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Diagram 4"/>
          <p:cNvGrpSpPr/>
          <p:nvPr/>
        </p:nvGrpSpPr>
        <p:grpSpPr>
          <a:xfrm>
            <a:off x="2507400" y="1268280"/>
            <a:ext cx="4586040" cy="4856760"/>
            <a:chOff x="2507400" y="1268280"/>
            <a:chExt cx="4586040" cy="4856760"/>
          </a:xfrm>
        </p:grpSpPr>
        <p:sp>
          <p:nvSpPr>
            <p:cNvPr id="58" name="_s1028"/>
            <p:cNvSpPr/>
            <p:nvPr/>
          </p:nvSpPr>
          <p:spPr>
            <a:xfrm flipH="1" flipV="1">
              <a:off x="3989880" y="2837520"/>
              <a:ext cx="405360" cy="429480"/>
            </a:xfrm>
            <a:prstGeom prst="line">
              <a:avLst/>
            </a:prstGeom>
            <a:ln w="28440">
              <a:solidFill>
                <a:srgbClr val="575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29"/>
            <p:cNvSpPr/>
            <p:nvPr/>
          </p:nvSpPr>
          <p:spPr>
            <a:xfrm>
              <a:off x="3010680" y="1801440"/>
              <a:ext cx="1145880" cy="1213920"/>
            </a:xfrm>
            <a:prstGeom prst="ellipse">
              <a:avLst/>
            </a:prstGeom>
            <a:solidFill>
              <a:srgbClr val="939ea9">
                <a:alpha val="50000"/>
              </a:srgbClr>
            </a:solidFill>
            <a:ln w="57240">
              <a:solidFill>
                <a:srgbClr val="939e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овет-ни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30"/>
            <p:cNvSpPr/>
            <p:nvPr/>
          </p:nvSpPr>
          <p:spPr>
            <a:xfrm flipH="1">
              <a:off x="3654000" y="3696480"/>
              <a:ext cx="573480" cy="0"/>
            </a:xfrm>
            <a:prstGeom prst="line">
              <a:avLst/>
            </a:prstGeom>
            <a:ln w="28440">
              <a:solidFill>
                <a:srgbClr val="575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31"/>
            <p:cNvSpPr/>
            <p:nvPr/>
          </p:nvSpPr>
          <p:spPr>
            <a:xfrm>
              <a:off x="2507400" y="3089880"/>
              <a:ext cx="1146240" cy="1213920"/>
            </a:xfrm>
            <a:prstGeom prst="ellipse">
              <a:avLst/>
            </a:prstGeom>
            <a:solidFill>
              <a:srgbClr val="6d776e">
                <a:alpha val="50000"/>
              </a:srgbClr>
            </a:solidFill>
            <a:ln w="57240">
              <a:solidFill>
                <a:srgbClr val="6d77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Экспер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2"/>
            <p:cNvSpPr/>
            <p:nvPr/>
          </p:nvSpPr>
          <p:spPr>
            <a:xfrm flipH="1">
              <a:off x="3989880" y="4125240"/>
              <a:ext cx="405360" cy="429480"/>
            </a:xfrm>
            <a:prstGeom prst="line">
              <a:avLst/>
            </a:prstGeom>
            <a:ln w="28440">
              <a:solidFill>
                <a:srgbClr val="575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33"/>
            <p:cNvSpPr/>
            <p:nvPr/>
          </p:nvSpPr>
          <p:spPr>
            <a:xfrm>
              <a:off x="3011400" y="4378320"/>
              <a:ext cx="1146240" cy="121392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Дру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34"/>
            <p:cNvSpPr/>
            <p:nvPr/>
          </p:nvSpPr>
          <p:spPr>
            <a:xfrm>
              <a:off x="4800600" y="4302720"/>
              <a:ext cx="0" cy="607680"/>
            </a:xfrm>
            <a:prstGeom prst="line">
              <a:avLst/>
            </a:prstGeom>
            <a:ln w="28440">
              <a:solidFill>
                <a:srgbClr val="575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035"/>
            <p:cNvSpPr/>
            <p:nvPr/>
          </p:nvSpPr>
          <p:spPr>
            <a:xfrm>
              <a:off x="4228200" y="4911120"/>
              <a:ext cx="1145880" cy="1213920"/>
            </a:xfrm>
            <a:prstGeom prst="ellipse">
              <a:avLst/>
            </a:prstGeom>
            <a:solidFill>
              <a:srgbClr val="bd8949">
                <a:alpha val="50000"/>
              </a:srgbClr>
            </a:solidFill>
            <a:ln w="57240">
              <a:solidFill>
                <a:srgbClr val="bd89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бщест-венни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036"/>
            <p:cNvSpPr/>
            <p:nvPr/>
          </p:nvSpPr>
          <p:spPr>
            <a:xfrm>
              <a:off x="5205240" y="4125240"/>
              <a:ext cx="405360" cy="429480"/>
            </a:xfrm>
            <a:prstGeom prst="line">
              <a:avLst/>
            </a:prstGeom>
            <a:ln w="28440">
              <a:solidFill>
                <a:srgbClr val="575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037"/>
            <p:cNvSpPr/>
            <p:nvPr/>
          </p:nvSpPr>
          <p:spPr>
            <a:xfrm>
              <a:off x="5443920" y="4377240"/>
              <a:ext cx="1146240" cy="1213920"/>
            </a:xfrm>
            <a:prstGeom prst="ellipse">
              <a:avLst/>
            </a:prstGeom>
            <a:solidFill>
              <a:srgbClr val="0099cc">
                <a:alpha val="50000"/>
              </a:srgbClr>
            </a:solidFill>
            <a:ln w="57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он-суль-тан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038"/>
            <p:cNvSpPr/>
            <p:nvPr/>
          </p:nvSpPr>
          <p:spPr>
            <a:xfrm>
              <a:off x="5372640" y="3696480"/>
              <a:ext cx="573480" cy="0"/>
            </a:xfrm>
            <a:prstGeom prst="line">
              <a:avLst/>
            </a:prstGeom>
            <a:ln w="28440">
              <a:solidFill>
                <a:srgbClr val="575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39"/>
            <p:cNvSpPr/>
            <p:nvPr/>
          </p:nvSpPr>
          <p:spPr>
            <a:xfrm>
              <a:off x="5947560" y="3089520"/>
              <a:ext cx="1145880" cy="1213920"/>
            </a:xfrm>
            <a:prstGeom prst="ellipse">
              <a:avLst/>
            </a:prstGeom>
            <a:solidFill>
              <a:srgbClr val="939ea9">
                <a:alpha val="50000"/>
              </a:srgbClr>
            </a:solidFill>
            <a:ln w="57240">
              <a:solidFill>
                <a:srgbClr val="939e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Адвока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040"/>
            <p:cNvSpPr/>
            <p:nvPr/>
          </p:nvSpPr>
          <p:spPr>
            <a:xfrm flipV="1">
              <a:off x="5205240" y="2837520"/>
              <a:ext cx="405360" cy="429480"/>
            </a:xfrm>
            <a:prstGeom prst="line">
              <a:avLst/>
            </a:prstGeom>
            <a:ln w="28440">
              <a:solidFill>
                <a:srgbClr val="575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41"/>
            <p:cNvSpPr/>
            <p:nvPr/>
          </p:nvSpPr>
          <p:spPr>
            <a:xfrm>
              <a:off x="5443200" y="1801440"/>
              <a:ext cx="1145880" cy="1213920"/>
            </a:xfrm>
            <a:prstGeom prst="ellipse">
              <a:avLst/>
            </a:prstGeom>
            <a:solidFill>
              <a:srgbClr val="6d776e">
                <a:alpha val="50000"/>
              </a:srgbClr>
            </a:solidFill>
            <a:ln w="57240">
              <a:solidFill>
                <a:srgbClr val="6d77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сред-ни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042"/>
            <p:cNvSpPr/>
            <p:nvPr/>
          </p:nvSpPr>
          <p:spPr>
            <a:xfrm flipV="1">
              <a:off x="4800600" y="2481840"/>
              <a:ext cx="0" cy="607320"/>
            </a:xfrm>
            <a:prstGeom prst="line">
              <a:avLst/>
            </a:prstGeom>
            <a:ln w="28440">
              <a:solidFill>
                <a:srgbClr val="575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43"/>
            <p:cNvSpPr/>
            <p:nvPr/>
          </p:nvSpPr>
          <p:spPr>
            <a:xfrm>
              <a:off x="4227480" y="1268280"/>
              <a:ext cx="1146240" cy="121392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мощ-ни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044"/>
            <p:cNvSpPr/>
            <p:nvPr/>
          </p:nvSpPr>
          <p:spPr>
            <a:xfrm>
              <a:off x="4227480" y="3089880"/>
              <a:ext cx="1146240" cy="121392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57240">
              <a:solidFill>
                <a:srgbClr val="575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Arial"/>
                </a:rPr>
                <a:t>Соци-аль-ный педагог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Organization Chart 7"/>
          <p:cNvGrpSpPr/>
          <p:nvPr/>
        </p:nvGrpSpPr>
        <p:grpSpPr>
          <a:xfrm>
            <a:off x="539640" y="1197000"/>
            <a:ext cx="8208360" cy="4462560"/>
            <a:chOff x="539640" y="1197000"/>
            <a:chExt cx="8208360" cy="4462560"/>
          </a:xfrm>
        </p:grpSpPr>
        <p:cxnSp>
          <p:nvCxnSpPr>
            <p:cNvPr id="76" name="_s2052"/>
            <p:cNvCxnSpPr>
              <a:stCxn id="77" idx="0"/>
              <a:endCxn id="78" idx="2"/>
            </p:cNvCxnSpPr>
            <p:nvPr/>
          </p:nvCxnSpPr>
          <p:spPr>
            <a:xfrm flipV="1" rot="16200000">
              <a:off x="5633640" y="19908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2053"/>
            <p:cNvCxnSpPr>
              <a:stCxn id="80" idx="0"/>
              <a:endCxn id="78" idx="2"/>
            </p:cNvCxnSpPr>
            <p:nvPr/>
          </p:nvCxnSpPr>
          <p:spPr>
            <a:xfrm flipV="1">
              <a:off x="4644000" y="2981160"/>
              <a:ext cx="360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2054"/>
            <p:cNvCxnSpPr>
              <a:stCxn id="82" idx="0"/>
              <a:endCxn id="78" idx="2"/>
            </p:cNvCxnSpPr>
            <p:nvPr/>
          </p:nvCxnSpPr>
          <p:spPr>
            <a:xfrm flipH="1" flipV="1" rot="5400000">
              <a:off x="2760840" y="199116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8" name="_s2055"/>
            <p:cNvSpPr/>
            <p:nvPr/>
          </p:nvSpPr>
          <p:spPr>
            <a:xfrm>
              <a:off x="3412440" y="119700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Технолог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Самообраз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Социальног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педагог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2056"/>
            <p:cNvSpPr/>
            <p:nvPr/>
          </p:nvSpPr>
          <p:spPr>
            <a:xfrm>
              <a:off x="539640" y="38746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Общение с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высококлассными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коллегами,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обмен опытом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2057"/>
            <p:cNvSpPr/>
            <p:nvPr/>
          </p:nvSpPr>
          <p:spPr>
            <a:xfrm>
              <a:off x="3412440" y="38746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Решение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конкретной задачи,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имеющей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практический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характер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2058"/>
            <p:cNvSpPr/>
            <p:nvPr/>
          </p:nvSpPr>
          <p:spPr>
            <a:xfrm>
              <a:off x="6285600" y="38746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cc3399"/>
                  </a:solidFill>
                  <a:latin typeface="Arial"/>
                </a:rPr>
                <a:t>Обзор нормативно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cc3399"/>
                  </a:solidFill>
                  <a:latin typeface="Arial"/>
                </a:rPr>
                <a:t>-правовых актов,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cc3399"/>
                  </a:solidFill>
                  <a:latin typeface="Arial"/>
                </a:rPr>
                <a:t>методлитературы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cc3399"/>
                  </a:solidFill>
                  <a:latin typeface="Arial"/>
                </a:rPr>
                <a:t>периодической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cc3399"/>
                  </a:solidFill>
                  <a:latin typeface="Arial"/>
                </a:rPr>
                <a:t>печат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Organization Chart 7"/>
          <p:cNvGrpSpPr/>
          <p:nvPr/>
        </p:nvGrpSpPr>
        <p:grpSpPr>
          <a:xfrm>
            <a:off x="539640" y="1197000"/>
            <a:ext cx="8208360" cy="4462560"/>
            <a:chOff x="539640" y="1197000"/>
            <a:chExt cx="8208360" cy="4462560"/>
          </a:xfrm>
        </p:grpSpPr>
        <p:cxnSp>
          <p:nvCxnSpPr>
            <p:cNvPr id="84" name="_s2061"/>
            <p:cNvCxnSpPr>
              <a:stCxn id="85" idx="0"/>
              <a:endCxn id="86" idx="2"/>
            </p:cNvCxnSpPr>
            <p:nvPr/>
          </p:nvCxnSpPr>
          <p:spPr>
            <a:xfrm flipV="1" rot="16200000">
              <a:off x="5633640" y="19908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2062"/>
            <p:cNvCxnSpPr>
              <a:stCxn id="88" idx="0"/>
              <a:endCxn id="86" idx="2"/>
            </p:cNvCxnSpPr>
            <p:nvPr/>
          </p:nvCxnSpPr>
          <p:spPr>
            <a:xfrm flipV="1">
              <a:off x="4644000" y="2981160"/>
              <a:ext cx="360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" name="_s2063"/>
            <p:cNvCxnSpPr>
              <a:stCxn id="90" idx="0"/>
              <a:endCxn id="86" idx="2"/>
            </p:cNvCxnSpPr>
            <p:nvPr/>
          </p:nvCxnSpPr>
          <p:spPr>
            <a:xfrm flipH="1" flipV="1" rot="5400000">
              <a:off x="2760840" y="199116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6" name="_s2064"/>
            <p:cNvSpPr/>
            <p:nvPr/>
          </p:nvSpPr>
          <p:spPr>
            <a:xfrm>
              <a:off x="3412440" y="119700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Технолог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Самообраз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Социальног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педагог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2065"/>
            <p:cNvSpPr/>
            <p:nvPr/>
          </p:nvSpPr>
          <p:spPr>
            <a:xfrm>
              <a:off x="539640" y="38746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Общение с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высококлассными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коллегами,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обмен опытом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2066"/>
            <p:cNvSpPr/>
            <p:nvPr/>
          </p:nvSpPr>
          <p:spPr>
            <a:xfrm>
              <a:off x="3412440" y="38746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Решение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конкретной задачи,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имеющей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практический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99"/>
                  </a:solidFill>
                  <a:latin typeface="Arial"/>
                </a:rPr>
                <a:t>характер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2067"/>
            <p:cNvSpPr/>
            <p:nvPr/>
          </p:nvSpPr>
          <p:spPr>
            <a:xfrm>
              <a:off x="6285600" y="38746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cc3399"/>
                  </a:solidFill>
                  <a:latin typeface="Arial"/>
                </a:rPr>
                <a:t>Обзор нормативно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cc3399"/>
                  </a:solidFill>
                  <a:latin typeface="Arial"/>
                </a:rPr>
                <a:t>-правовых актов,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cc3399"/>
                  </a:solidFill>
                  <a:latin typeface="Arial"/>
                </a:rPr>
                <a:t>методлитературы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cc3399"/>
                  </a:solidFill>
                  <a:latin typeface="Arial"/>
                </a:rPr>
                <a:t>периодической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cc3399"/>
                  </a:solidFill>
                  <a:latin typeface="Arial"/>
                </a:rPr>
                <a:t>печат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8T10:00:30Z</dcterms:created>
  <dc:creator>Student</dc:creator>
  <dc:description/>
  <dc:language>en-US</dc:language>
  <cp:lastModifiedBy>evroset</cp:lastModifiedBy>
  <dcterms:modified xsi:type="dcterms:W3CDTF">2018-03-14T16:13:19Z</dcterms:modified>
  <cp:revision>26</cp:revision>
  <dc:subject/>
  <dc:title>Слайд 1</dc:title>
</cp:coreProperties>
</file>